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49E-0830-4B68-8772-45713E36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6BF-D7FB-4418-A43B-BAAB59D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57F-1F90-4990-82DC-19AF875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64D-F5F8-43F8-9F92-9C4A13FC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56A-213E-40B4-8A9F-B6C80311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EC6-FDFB-41C9-AFF3-359D2E0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15F-4436-4BBC-855B-63EF6B4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0E5-9BB7-48F1-9405-FA9CBAF8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EC2-7788-49B4-803E-0180D163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1C2-88C1-43D2-862C-5CABF83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F17-3210-4B36-AC13-6BF63A6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D31-EDE2-4565-BA3C-A979FC4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696-98BA-4121-8E36-164931FCE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29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693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3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429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4800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6858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68706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74674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2012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16256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0520" y="4267080"/>
            <a:ext cx="561600" cy="459720"/>
          </a:xfrm>
          <a:prstGeom prst="rect">
            <a:avLst/>
          </a:prstGeom>
          <a:solidFill>
            <a:srgbClr val="d5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53280" y="4724280"/>
            <a:ext cx="30492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4724280"/>
            <a:ext cx="457200" cy="304920"/>
          </a:xfrm>
          <a:prstGeom prst="rect">
            <a:avLst/>
          </a:prstGeom>
          <a:solidFill>
            <a:srgbClr val="e6f1ff"/>
          </a:solidFill>
          <a:ln w="9360">
            <a:solidFill>
              <a:srgbClr val="e6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43:28Z</dcterms:modified>
  <cp:revision>43</cp:revision>
  <dc:subject/>
  <dc:title>PowerPoint Presentation</dc:title>
</cp:coreProperties>
</file>